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failure1.wav" ContentType="audio/x-wav"/>
  <Override PartName="/ppt/media/image8.png" ContentType="image/png"/>
  <Override PartName="/ppt/media/image7.png" ContentType="image/png"/>
  <Override PartName="/ppt/media/hmm.wav" ContentType="audio/x-wav"/>
  <Override PartName="/ppt/media/image1.jpeg" ContentType="image/jpeg"/>
  <Override PartName="/ppt/media/image6.png" ContentType="image/png"/>
  <Override PartName="/ppt/media/ZZZZ.wav" ContentType="audio/x-wav"/>
  <Override PartName="/ppt/media/image4.png" ContentType="image/png"/>
  <Override PartName="/ppt/media/image12.png" ContentType="image/png"/>
  <Override PartName="/ppt/media/knowitall.wav" ContentType="audio/x-wav"/>
  <Override PartName="/ppt/media/image15.png" ContentType="image/png"/>
  <Override PartName="/ppt/media/image14.png" ContentType="image/png"/>
  <Override PartName="/ppt/media/image13.png" ContentType="image/png"/>
  <Override PartName="/ppt/media/ticktock.wav" ContentType="audio/x-wav"/>
  <Override PartName="/ppt/media/image10.png" ContentType="image/png"/>
  <Override PartName="/ppt/media/image5.png" ContentType="image/png"/>
  <Override PartName="/ppt/media/bugleshort.wav" ContentType="audio/x-wav"/>
  <Override PartName="/ppt/media/image11.png" ContentType="image/png"/>
  <Override PartName="/ppt/media/image2.jpeg" ContentType="image/jpeg"/>
  <Override PartName="/ppt/media/image3.png" ContentType="image/png"/>
  <Override PartName="/ppt/media/12-1234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F7E-5C44-4EAA-8920-FD33C752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F66-75A0-4D9C-A17A-C445827E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0BE-A3F9-4DBF-A0FE-4BD4E2E4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F75-4FB3-4CDC-A012-983AD9C9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45B2-0787-4A0B-A856-12E6C51A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8F19-5FEE-46F6-997B-11BC3AB4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AE4B-90E9-4B8A-B0CE-3640BCA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8B4D-6F79-48AC-B2BA-5CA164AD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BD3C-8AF4-4991-B0C0-968922C4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37E3-543F-4F97-B69E-46E2D79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171-A9AF-414D-A310-C323AE8C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0F7-EBBA-4DE6-B47A-BA1962B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AF6B-C244-4FC0-9773-FDA9900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3E10-07CC-43E7-90C6-870A1F5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A47F-27B0-4EC5-A3BA-6D096ABF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5301-99A9-4AF0-BC00-0F8C390C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5077-5CFF-41E4-AEDA-42102F38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A7B-876B-4D91-A2AB-E381F42C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2CB-8440-4B85-8B62-FF1CA51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5E2-BC1F-48CF-A56A-9B750C14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86A-12A4-4935-9BC9-A53DED53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D3B-2044-42F2-8DA9-EB21C73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EC0-758E-43B4-B32C-037A6EDA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66E-24B0-40D1-A911-061C1F17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1BCD-A92F-48DE-8D8B-8D5AFD2FC5DE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DDC4-C4C4-4FA6-9A49-4A749B31AD41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12-1234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ailure1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cktock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ZZZZ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nowitall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lc.k12.ga.us/news/NewsItems/Current/celeb/te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gleshort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hmm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ategies for Taking Standardized Tes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4724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Skip, Return, Check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finish early, check to make sure you have answered all questions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2557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Key Word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Find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key word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hrase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in the question that will help you choose the correct answer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228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re we communicating?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e sure you understand what the question is asking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 sure you are responding to the question that is being asked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the test requires you to read passages and then answer questions about what you read,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733920"/>
            <a:ext cx="685800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ead the questions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first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4572000"/>
            <a:ext cx="6858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y doing this, you will know what you are looking for as you read.  This also helps you go faster on the test.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1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en there are several questions about a reading passage or chart, look for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lue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in other questions that will help you with those items about which you are unsur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30040" y="30492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8012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en using scratch paper on a math test, double check to make sure that you have copied the problem correctly from the test booklet!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52680" y="3543480"/>
            <a:ext cx="3114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83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246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Line up place value correctly on your scratch paper (thousands, hundreds, tens, ones) or the answer will be incorrect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53341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30040" y="1981080"/>
            <a:ext cx="7383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your answer does not match one of the choices, reread the problem, recopy the numbers, and try solving it again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260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 Matter of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any time remains, spend it on those questions about which you know nothing or almost nothing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s you go back through, do not change all answers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Remember:  Your first guess is usually right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It’s About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534672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rewriting or obsessing about neatness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worry if you run out of time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62920" y="2971800"/>
            <a:ext cx="1428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was the Night Before Testing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6642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Go to bed on time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43000" y="2324160"/>
            <a:ext cx="7886880" cy="1866960"/>
            <a:chOff x="1143000" y="2324160"/>
            <a:chExt cx="7886880" cy="18669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162920" y="232416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143000" y="2819520"/>
              <a:ext cx="6172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Put a few number 2 pencils with erasers in your backpack.</a:t>
              </a:r>
              <a:endParaRPr b="0" lang="en-US" sz="32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43000" y="426708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olve family/friend problems before the testing date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5334120"/>
            <a:ext cx="8001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alk to your parents about any concerns that you might have about the test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Final Tip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ll in bubbles fully, write neatly, and erase stray marks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ouble-check the test number in your test booklet against the answer sheet every few questions to be sure you haven’t gotten on the wrong number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705720" y="76320"/>
            <a:ext cx="22860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Death Grip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73400"/>
            <a:ext cx="798012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r arm tires during testing it is probably due to the grip that you have on your pencil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lax the grip and give those muscles a break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do arm exercises during testing as this disturbs others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075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ank you, Mr. Know-it-all!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it's okay not to know everything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— unlike class tests, these tests will have some questions designed to challenge the limits of your knowledge at a grade level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abov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your current grade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cover dir="rd"/>
    <p:sndAc>
      <p:stSnd>
        <p:snd r:embed="rId2" name="knowita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For Teacher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Test the Best!</a:t>
            </a:r>
            <a:r>
              <a:rPr b="1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 Lesson plans and activities to prepare students for standardized tests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Morning of Testing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art your day as you always do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t a good breakfast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ink of what you will do to relax after you get home from school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Think Positive!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gle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do not understand the directions, ask for help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Read the question and </a:t>
            </a:r>
            <a:r>
              <a:rPr b="1" i="1" lang="en-US" sz="4800" spc="-1" strike="noStrike">
                <a:solidFill>
                  <a:srgbClr val="cc0066"/>
                </a:solidFill>
                <a:latin typeface="Arial"/>
              </a:rPr>
              <a:t>all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answer choices before marking anything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Pace Yourself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on any one question. Do your best and then move o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swers the easiest questions first, but be sure to go back to those questions you skipped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change your answers unless you are very uncertain about your first answer choic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 to answer every question. Make the most intelligent guess you ca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090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fter you have been through all of the questions once, go back and find questions you have some knowledge about and eliminate choices that you know are incorrect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28800" y="3971880"/>
            <a:ext cx="6858000" cy="2886120"/>
            <a:chOff x="1828800" y="3971880"/>
            <a:chExt cx="6858000" cy="2886120"/>
          </a:xfrm>
        </p:grpSpPr>
        <p:sp>
          <p:nvSpPr>
            <p:cNvPr id="102" name=""/>
            <p:cNvSpPr/>
            <p:nvPr/>
          </p:nvSpPr>
          <p:spPr>
            <a:xfrm>
              <a:off x="4114800" y="3971880"/>
              <a:ext cx="4572000" cy="2057400"/>
            </a:xfrm>
            <a:prstGeom prst="cloudCallout">
              <a:avLst>
                <a:gd name="adj1" fmla="val -63749"/>
                <a:gd name="adj2" fmla="val 41666"/>
              </a:avLst>
            </a:prstGeom>
            <a:solidFill>
              <a:srgbClr val="ffff0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I know </a:t>
              </a:r>
              <a:r>
                <a:rPr b="1" i="1" lang="en-US" sz="36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 isn’t the answer!</a:t>
              </a:r>
              <a:endParaRPr b="0" lang="en-US" sz="3200" spc="-1" strike="noStrike">
                <a:solidFill>
                  <a:srgbClr val="660066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828800" y="5495760"/>
              <a:ext cx="1228680" cy="136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 can eliminate two wrong answers, your chance of choosing the right answer is greater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038480" y="449568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nswering Question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't guess blindly, but if you have time to think about the best answer choice, make it!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86200" y="4267080"/>
            <a:ext cx="2079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8:54:52Z</dcterms:created>
  <dc:creator>Connie Campbell</dc:creator>
  <dc:description/>
  <dc:language>en-US</dc:language>
  <cp:lastModifiedBy>Connie Campbell</cp:lastModifiedBy>
  <dcterms:modified xsi:type="dcterms:W3CDTF">2004-03-24T19:51:30Z</dcterms:modified>
  <cp:revision>17</cp:revision>
  <dc:subject/>
  <dc:title>Test Taking Strategies</dc:title>
</cp:coreProperties>
</file>